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512-9F61-42DD-9BD2-3C0908DA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32D-4EE2-414A-A317-AB9A13DF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91E-2D68-47A7-88E1-6E89401E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D641-0152-4109-8BF7-7010D8FE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67D7-49B0-48B1-BFEA-78B7E8DD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36C-B174-453A-AF46-7BE2157B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A232-45C9-4CCE-AEF2-0F27B936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B546-4388-4BC9-BC38-65D2AAA0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CE2-3A66-4407-AD9B-C8A09B5A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7494-9735-4AF1-92C7-70C9680F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ABDD-6641-41BF-A70A-4D2349C7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AAD2-5DDE-48CF-B71B-9B19D970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CAF8-CF61-4EE3-A6BD-106982A54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 Scarf Gi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ritten By: Ji-Li Ji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pers by Kil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228600" y="228600"/>
            <a:ext cx="1981080" cy="1066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airman Mao Launches the Cultural Rev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2"/>
          <p:cNvSpPr/>
          <p:nvPr/>
        </p:nvSpPr>
        <p:spPr>
          <a:xfrm>
            <a:off x="304920" y="2133720"/>
            <a:ext cx="2514600" cy="1600200"/>
          </a:xfrm>
          <a:prstGeom prst="roundRect">
            <a:avLst>
              <a:gd name="adj" fmla="val 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i-Li Jiang is from a black family in a perfect communism society and her grandfather is a landlord so she was ha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228600" y="4114800"/>
            <a:ext cx="228600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i-Li Jiang is not excepted to be a Red guard because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f her family backgrou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429000" y="2743200"/>
            <a:ext cx="18288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ger and frustration with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8"/>
          <p:cNvCxnSpPr>
            <a:stCxn id="43" idx="3"/>
          </p:cNvCxnSpPr>
          <p:nvPr/>
        </p:nvCxnSpPr>
        <p:spPr>
          <a:xfrm>
            <a:off x="2209320" y="762120"/>
            <a:ext cx="122004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Straight Arrow Connector 10"/>
          <p:cNvCxnSpPr>
            <a:stCxn id="44" idx="3"/>
            <a:endCxn id="46" idx="1"/>
          </p:cNvCxnSpPr>
          <p:nvPr/>
        </p:nvCxnSpPr>
        <p:spPr>
          <a:xfrm>
            <a:off x="2819160" y="2933280"/>
            <a:ext cx="61020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Straight Arrow Connector 12"/>
          <p:cNvCxnSpPr/>
          <p:nvPr/>
        </p:nvCxnSpPr>
        <p:spPr>
          <a:xfrm flipV="1">
            <a:off x="2590920" y="3580920"/>
            <a:ext cx="83880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Smiley Face 13"/>
          <p:cNvSpPr/>
          <p:nvPr/>
        </p:nvSpPr>
        <p:spPr>
          <a:xfrm>
            <a:off x="5638680" y="228600"/>
            <a:ext cx="2667240" cy="2895480"/>
          </a:xfrm>
          <a:prstGeom prst="smileyFace">
            <a:avLst>
              <a:gd name="adj" fmla="val -4652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Ji-Li Jiang decides to blame fate for all the bad that has happened even though she has gone thro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6324480" y="3505320"/>
            <a:ext cx="190512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r friends  grandma  commits suic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16"/>
          <p:cNvCxnSpPr/>
          <p:nvPr/>
        </p:nvCxnSpPr>
        <p:spPr>
          <a:xfrm flipV="1">
            <a:off x="5257800" y="1980720"/>
            <a:ext cx="381600" cy="99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19"/>
          <p:cNvCxnSpPr>
            <a:endCxn id="51" idx="1"/>
          </p:cNvCxnSpPr>
          <p:nvPr/>
        </p:nvCxnSpPr>
        <p:spPr>
          <a:xfrm>
            <a:off x="5257440" y="3429000"/>
            <a:ext cx="1067400" cy="572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Rectangle 21"/>
          <p:cNvSpPr/>
          <p:nvPr/>
        </p:nvSpPr>
        <p:spPr>
          <a:xfrm>
            <a:off x="5562720" y="4876920"/>
            <a:ext cx="243828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r house is searched by the Red guards and is very much destroy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3"/>
          <p:cNvCxnSpPr>
            <a:endCxn id="54" idx="1"/>
          </p:cNvCxnSpPr>
          <p:nvPr/>
        </p:nvCxnSpPr>
        <p:spPr>
          <a:xfrm>
            <a:off x="5256720" y="3733560"/>
            <a:ext cx="305640" cy="1639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7:55:07Z</dcterms:created>
  <dc:creator>ITSUser</dc:creator>
  <dc:description/>
  <dc:language>en-US</dc:language>
  <cp:lastModifiedBy>ITSUser</cp:lastModifiedBy>
  <dcterms:modified xsi:type="dcterms:W3CDTF">2009-11-19T18:15:18Z</dcterms:modified>
  <cp:revision>3</cp:revision>
  <dc:subject/>
  <dc:title>Red Scarf Girl</dc:title>
</cp:coreProperties>
</file>